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D3F2-BA41-4B45-9D4C-6C76FE0DB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645D-D70F-4FCE-9801-7307F8748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1E56-67CA-473A-9B7F-626B853E2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B4C7-3948-40CA-8DBA-38EE6045A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B5BF-25CA-478F-8FB7-3BD8ED465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985F-FC9A-4793-9BF5-30BE89AD3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E294-96A8-4A0B-A62E-9F0A09C20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7023-A112-434A-B7FA-D6D49390F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4064-5F2D-478B-ACDA-B02DD9497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D45F-B8FC-4551-A1DB-EBEA4F113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A8CF-11F4-4AEC-B90B-138E9B372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39C3-0B53-4B51-830F-49799CA5E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1FDC-1F71-4EE0-9DA0-7F930CC7E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5DAD-9A5C-4524-831E-B0EAE06FC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28A4-866B-4886-834A-67936CDEA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7DA4-E4B0-4745-9469-587F44C0A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18B5-8D64-4E2D-9028-4FAD1A84D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E48C-529A-4B86-8421-31A316C68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29ED-DEB6-42AB-A4FB-853885C1F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A2E1-31A5-4AE6-9D7C-46020B8DE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F98D-830B-4C85-AF19-22CB72EF9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80C0-3923-4DA1-AFBC-F3E9F60D4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1777-5D71-425F-B442-DC81EB7BA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86D6-BD43-4B9F-9ECF-8D08A525C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633B-2DB2-4D67-BEB0-DD99B0628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9695-A6B1-4E0D-B989-A266DA3AA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8B4C-6D2A-443A-A4C9-A8AD5F235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E6FC-319D-47D0-96FB-62ADD1C5A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244E-23FB-4465-A1E5-5A92F2F68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5306-DDA6-49BD-A85B-6A6E7928E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17E3-27A9-4CD5-A70B-CC5C1FDEC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E9D4-CDA1-4D4B-8698-CAFD7463A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A7C0-AB80-43A3-B76C-8B8A6EC08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AD4F-2EBF-4720-8466-759FE9574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7D25-F2BD-45B3-8059-31E32551E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279D-9D4A-476F-A30A-E0E04CA35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4084-B39C-4403-A4B9-3B411DED4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1FB0-6EAA-4183-AC07-C2992FAE6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498-E18E-438C-9835-47AD2F79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DA4-7131-4882-8B7C-65B4445E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EA7-0CFD-4EB3-8DB8-D8E5584C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24B-0AA7-4C8F-B961-5C005959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567-20F0-4FBB-BEFF-CADA5CD2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0AC-F9CA-41E3-9801-706BB391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037-1B00-4D05-B169-9BEDF964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873-BBEA-4725-9301-290A1269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12D-8D4D-4976-8992-DAB5D07F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C01-FD24-45FB-A96B-F299F995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862-7847-4D1B-ADAB-E86C300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26F-58C5-4CAC-A59E-DEA4D514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E77D-398F-4A4B-AF89-48B8A4CEF6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800" spc="-1" strike="noStrike">
                <a:solidFill>
                  <a:srgbClr val="003300"/>
                </a:solidFill>
                <a:latin typeface="Garamond"/>
              </a:rPr>
              <a:t>Развој личности, личност и болест</a:t>
            </a:r>
            <a:endParaRPr b="0" lang="en-US" sz="3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Garamond"/>
              </a:rPr>
              <a:t>Суперего (Над-Ја)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37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Део личности који је настао модификацијом Ега прихватањем родитељских и друштвених утицаја током развоја 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1680" indent="-3016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У овом делу човекове личности је седиште свести, самоконтроле, забрана,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моралних норми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, осећаја кривиц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1680" indent="-3016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Основна улога Суперега је да спречава и зауставља импулсе, углавном недозвољене или неприхватљиве, који долазе из Ида и теже да се без одлагања задовољ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Склоп личности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Интеграција биолошких (Ид), психолошких (Его) и друштвених (Суперего) снага личности, које се често сукобљавају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Сукоби доводе до настанка страха, за које свака особа онда проналази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различите одбрамбене механизм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Према теорији С. Фројда, развој сваке личности одвија се кроз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различите психосексуалне етап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Фазе у развоју - Фројд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30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3000"/>
          </a:bodyPr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Оралн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Аналн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Фалусн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Латенције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Гениталн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Garamond"/>
              </a:rPr>
              <a:t>	</a:t>
            </a:r>
            <a:r>
              <a:rPr b="0" lang="en-GB" sz="3200" spc="-1" strike="noStrike">
                <a:solidFill>
                  <a:srgbClr val="0033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Орална фаз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713880"/>
            <a:ext cx="822960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Прва у процесу сазревања и њоме је обележена </a:t>
            </a: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прва година живот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Уста и процес дојења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јесу једини пут којим се доживљава стварност и постиже задовољење нагонских пулзија у виду тактилне стимулације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Складна понашања и осећања мајке и окружења детета, посебно кроз дојење, условљавају либидинозно задовољство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Уколико се у процесу храњења појаве напетост и страх, задовољење ће бити осујећено и тада може доћи до фиксација и обликовања оралног карактера са израженим цртама као што су: превелика зависност, пасивност, склоност оралним уживањим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Garamond"/>
              </a:rPr>
              <a:t>Анално-садистичка фаз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00120"/>
            <a:ext cx="822960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Траје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од краја прве до треће године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Либидна задовољења су у овој фази повезана са избацивањем и задржавањем фецеса - овладавање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функцијом сфинктера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редставља поље којим дете манипулише својом околином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Најзначајнији психолошки садржаји: амбивалентност, бисексуалност и обликовање аналног карактер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Карактеристике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аналног карактера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 су: конформизам, претерана контрола и уздржаност у животу, претерана уредност, шкртост, тврдоглавост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Фалусни стадијум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25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Почиње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од треће године и траје до пет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Генитални органи </a:t>
            </a: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постају доминанатне ерогене зоне и код дечака и код девојчиц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Осећања напетости и страха празне се гениталним путем, мастурбацијом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Латенциј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5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Garamond"/>
              </a:rPr>
              <a:t>Траје </a:t>
            </a: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од шесте године до пубертет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Garamond"/>
              </a:rPr>
              <a:t>Опада снага нагонских пулзија, углавном условљена васпитним утицајим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Garamond"/>
              </a:rPr>
              <a:t>Генитални развојни стадијум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Период пубертета 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25800" indent="-32580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Нагонски импулси, карактеристични за прегенитални период, сједињују се са новонасталим гениталним импулсим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25800" indent="-32580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Особа се од нарцистичког детета преображава у сексуално усмерену и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социјализовану одраслу особу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, која показује сексуалну привлачност, планира своје будуће активности и уз партнерске везе, брак и будућу породицу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Психологија личности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Личност је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комплексан систем 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психолошких структура и процеса, односно резултат интеракција између бројних субсистем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Личност се развија и функционише у непрестаном процесу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интеракција са средином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, што је основ за развој и испољавање способности личности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Постоји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континуитет и кохерентност 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личности као целине, кроз све развојне фаз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Континуум у индивидуалном развоју личности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350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Млађа одрасла доб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Средња доб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Старост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Личност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Збир свих карактеристика једне особе, која одређује њену јединственост и особеност, по чему се она разликује од свих других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599840"/>
            <a:ext cx="8229600" cy="290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Могућности развоја у одраслом добу?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Старење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Природан и неповратан физиолошки процес, који код сваког напредује различитом брзином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Фазе старењ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37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Фазе развоја у стручној литератури: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c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примарна</a:t>
            </a: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 (физиолошко и уобичајено старење, код свих људи)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c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секундарн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(старење под утицајем неке болести, ограничена на поједине људе или групе)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c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терцијарна</a:t>
            </a: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 (кратак временски период од неколико недеља до неколико месеци пре смрти, када животне функције нагло и значајно слабе)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Старост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7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Одређено животно раздобље повезано са хронолошким добом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Биолошка и хронолошка старост нису истоветне, него су условљене генотипском и фенотипском индивидуалношћу човек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У целини старачко доба наступа у оном животном периоду када се појаве објективни и субјективни знаци застоја и назадовања на биолошком, психолошком и социјалном плану код једне особ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Теорије о развоју одраслих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361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Многе од теорија које највише помажу у разумевању развоја одраслих су често ограничене на једну тему: 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теорија интелектуалног развој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теорија развоја личности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теорија развоја каријер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теорија породичног животног циклуса 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Фројд о различитим животним добим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Фројд је предложио да је “отац дете човека” и сматрао је да се већина догађаја у одраслој доби може најбоље објаснити разумевањем искустава из раног детињств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Адолесценциј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37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Обухвата знања о физилошком развоју младих између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12. и 26. године живота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, одступања од истог, као и начин на који се таква одступања лече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ериод живота од детињства до зрелог, одраслог доб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Овај сензибилни период живота у развоју сваке особе се битно издваја од периода детињства с једне стране и одраслог доба с друге стране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Зависи од организације самог друштва, културе, традиције, трајања школовања, запошљавања..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Три фазе адолесценције: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Рана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адолесценција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(9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13.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год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):</a:t>
            </a:r>
            <a:r>
              <a:rPr b="0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нагл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раст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секундарних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полних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карактеристик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Средњи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адолесцентни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стадијум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(14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15.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год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):</a:t>
            </a:r>
            <a:r>
              <a:rPr b="0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сопственог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идентитета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нов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однос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са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вршњачким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групама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супротним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полом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експериментисање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Касна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адолесценција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(16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? 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год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):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потпун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физичк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формиран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идентитет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зреле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идеје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мишљење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3300"/>
                </a:solidFill>
                <a:latin typeface="Garamond"/>
              </a:rPr>
              <a:t>Развојне</a:t>
            </a:r>
            <a:r>
              <a:rPr b="0" lang="sr-Latn-RS" sz="40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4000" spc="-1" strike="noStrike">
                <a:solidFill>
                  <a:srgbClr val="003300"/>
                </a:solidFill>
                <a:latin typeface="Garamond"/>
              </a:rPr>
              <a:t>карактеристике</a:t>
            </a:r>
            <a:r>
              <a:rPr b="0" lang="sr-Latn-RS" sz="40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4000" spc="-1" strike="noStrike">
                <a:solidFill>
                  <a:srgbClr val="003300"/>
                </a:solidFill>
                <a:latin typeface="Garamond"/>
              </a:rPr>
              <a:t>адолесцената</a:t>
            </a:r>
            <a:endParaRPr b="0" lang="en-US" sz="40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30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Физичк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Когнитивно </a:t>
            </a:r>
            <a:r>
              <a:rPr b="0" lang="sr-Latn-RS" sz="3200" spc="-1" strike="noStrike">
                <a:solidFill>
                  <a:srgbClr val="003300"/>
                </a:solidFill>
                <a:latin typeface="Garamond"/>
              </a:rPr>
              <a:t>-</a:t>
            </a: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 интелектуалн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Емоционалн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Социјално </a:t>
            </a:r>
            <a:r>
              <a:rPr b="0" lang="sr-Latn-RS" sz="3200" spc="-1" strike="noStrike">
                <a:solidFill>
                  <a:srgbClr val="003300"/>
                </a:solidFill>
                <a:latin typeface="Garamond"/>
              </a:rPr>
              <a:t>-</a:t>
            </a: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 интерперсоналн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Моралн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Физички развој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Секундарне полне карактеристик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Нагли раст, често праћен незграпношћу и трапавошћу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остају јако самопоуздани (утиче телесни изглед)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Флуктуације између хиперактивности и летаргиј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отреба за физичком активношћу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Темперамент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Оснивачи модерне психологије личности сагледавају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темепрамент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 као један елемент општих карактеристика индивиду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Олпорт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 (Allport) је 1937. године дефинисао темперамент као карактеристичну „емоционалну природу“ индивидуе, која укључује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брзину реаговања и типично расположењ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Сматрао је да је темперамент заснован на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биолошким законитостима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 и да је у великој мери наслеђен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Garamond"/>
              </a:rPr>
              <a:t>Когнитивно - интелектуални развој</a:t>
            </a:r>
            <a:endParaRPr b="0" lang="en-US" sz="40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99720"/>
            <a:ext cx="8229600" cy="44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апстрактног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мишљењ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ост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орист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онкретно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ритичког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мишљењ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ост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амосвесн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амокритични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Значајан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омуникацијских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вештин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ост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вадљив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тенденција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да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“буду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у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праву”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пособност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оношењ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одлук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жељ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з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“слободом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избора”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оказу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тендецију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ка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новим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интересовањима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, ал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лабост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ужег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задржавањ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Емоционални развој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остају емоционално непредвидиви, сензитивни и склони испадим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Рањиви на “емоционалне молбе” и тако лаки за манипулисањ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Појачан капацитет за емпатијом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ојачан сексуални нагон - сексуално понашање без размишљања о последицам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Garamond"/>
              </a:rPr>
              <a:t>Социјално-интерперсонални развој</a:t>
            </a:r>
            <a:endParaRPr b="0" lang="en-US" sz="40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2920" y="1000080"/>
            <a:ext cx="8858160" cy="421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Јака жеља за припадањем (свесни значаја социјалних веза)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Жеља за независношћу и аутономијом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Помак у зависности од родитеља ка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ависношћу од вршњак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Способност да критички упореде родитеље са другим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Тражење „дубљих“ пријатељстава заснованих на заједничким интересима и лојалности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Јако изражено интересовање према супротном полу (мада се често осећају уплашено и непријатно пред њима) 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Морални развој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1071720"/>
            <a:ext cx="871560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Тенденциј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легализм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фокусиран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н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“правила”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“правичност”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39480" indent="-3394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Задржав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моралн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уверењ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родитеља,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ал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очињ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тестир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равил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з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етињств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39480" indent="-3394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ост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“заражени”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вредностим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ој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ропагир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вршњаци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39480" indent="-3394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Формир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“личн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“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авест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траж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моралн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ритеријум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ој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з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њих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м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мисл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39480" indent="-3394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Јачањ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осећај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одговорност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рем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руштв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ширем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мислу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Адолесцентна криз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Криза ауторитет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Криза идентитета (конфузија)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Криза сексуалност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Криза ауторитет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28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Околина чини (свесне или несвесне) баријере да га прихвати као одраслог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Психосоцијалне претензије адолесцента </a:t>
            </a:r>
            <a:r>
              <a:rPr b="1" lang="en-US" sz="3200" spc="-1" strike="noStrike">
                <a:solidFill>
                  <a:srgbClr val="c00000"/>
                </a:solidFill>
                <a:latin typeface="Garamond"/>
              </a:rPr>
              <a:t>наспрам носиоца норми и забран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Пасивни/активни отпор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Криза или конфузија идентитет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реиспитивање својих животних циљева и улога у практичној реалној средини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Garamond"/>
              </a:rPr>
              <a:t>Ко сам ја? </a:t>
            </a:r>
            <a:r>
              <a:rPr b="0" i="1" lang="en-US" sz="2800" spc="-1" strike="noStrike">
                <a:solidFill>
                  <a:srgbClr val="003300"/>
                </a:solidFill>
                <a:latin typeface="Garamond"/>
              </a:rPr>
              <a:t>Зашто сам такав? Какав би требало да будем? Зашто се уопште живи?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рати је анксиозност, збуњеност, агресија, осећање отуђености, усамљености, инфериорности...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Лака мета одређеним групама: навијачке, религионзне, друштвено - политичк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Криза сексуалности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361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Потреба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за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задовољењем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изразито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јаког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ксуалног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нагон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Немогућност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реализације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услед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оцијалних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забран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Манифестује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ксуалном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аскезом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или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пак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ксуалном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моралном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детериорацијом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У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адолесценцији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открива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ксуална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орјентациј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Опасност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од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нежељених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трудноћа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полно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преносивих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болести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Карактер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Ужи појам од појма личности и подразумева оне аспекте личности који се одређују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 етичким и моралним критеријумима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, а испољавају у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оцијалним интеракцијама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(„добар-лош“, „чврст-слаб“ карактер). 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Структура карактера представља релативно стабилну и предвидиву организацију и интеграцију низа мотива, ставова, вредности, одбрамбених механизама и начина реаговања у социјалној средини 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Ствара се процесом учења у социјалној средини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Теорије личности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Биологистичке теорије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 (С. Фројд) - подразумевају да се енергија за развој личности добија из биолошких потенцијала нагона;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Социопсихолошке теорије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(А. Адлер (</a:t>
            </a:r>
            <a:r>
              <a:rPr b="0" lang="en-GB" sz="2400" spc="-1" strike="noStrike">
                <a:solidFill>
                  <a:srgbClr val="003300"/>
                </a:solidFill>
                <a:latin typeface="Garamond"/>
              </a:rPr>
              <a:t>A.Adler),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К. Хорнај (</a:t>
            </a:r>
            <a:r>
              <a:rPr b="0" lang="en-GB" sz="2400" spc="-1" strike="noStrike">
                <a:solidFill>
                  <a:srgbClr val="003300"/>
                </a:solidFill>
                <a:latin typeface="Garamond"/>
              </a:rPr>
              <a:t>K. Horney),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Х. С. Саливан (</a:t>
            </a:r>
            <a:r>
              <a:rPr b="0" lang="en-GB" sz="2400" spc="-1" strike="noStrike">
                <a:solidFill>
                  <a:srgbClr val="003300"/>
                </a:solidFill>
                <a:latin typeface="Garamond"/>
              </a:rPr>
              <a:t>H. S. Sullivan))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 -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енергетске изворе налазе у социјалној природи човека;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Персоналистичке теорије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(Г. Олпорт) - способност сваког појединца, различитост од других људи, у другом плану социјални фактори и фактори средине;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Теорије типа или теорије црта личности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(Н. Ајзенк (</a:t>
            </a:r>
            <a:r>
              <a:rPr b="0" lang="en-GB" sz="2400" spc="-1" strike="noStrike">
                <a:solidFill>
                  <a:srgbClr val="003300"/>
                </a:solidFill>
                <a:latin typeface="Garamond"/>
              </a:rPr>
              <a:t>H. Eysenck))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 -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факторска анализа и математичким моделима којима се бројне црте личности смањују на прихватљиву меру;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Интерперсоналне теорије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(К. Роџерс (</a:t>
            </a:r>
            <a:r>
              <a:rPr b="0" lang="en-GB" sz="2400" spc="-1" strike="noStrike">
                <a:solidFill>
                  <a:srgbClr val="003300"/>
                </a:solidFill>
                <a:latin typeface="Garamond"/>
              </a:rPr>
              <a:t>C. Rogers))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 –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целовитост личности и односи са другима; 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Теорије социјалног учења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где се развој и понашање личности доводи у везу са оним што особа учи током живота.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Сигмунд Фројд (1900)</a:t>
            </a:r>
            <a:br>
              <a:rPr sz="4400"/>
            </a:b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- несвесно, предсвесно и свесно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рва теорија: целокупна активност људи у основи је несвесна и да су несвесни процеси основа људског бић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истем несвесног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је седиште урођених, биолошки датих нагона, потиснутих жеља и сећања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(примарни процеси)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истем предсвесног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је седиште менталних процеса и опе- рација, као што су способност учења и примена наученог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(секундарни процеси)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истем свесног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је део личности код кога је већина операција доступна свесности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Сигмунд Фројд (1923)</a:t>
            </a:r>
            <a:br>
              <a:rPr sz="4400"/>
            </a:b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- Ид, Его и Суперего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Касније, развојно структуралну позицију Фројдове теорије личности замењује описно-тополошко гледишт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Представио нову верзију своје теорије у којој су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Ид, Его и Суперего </a:t>
            </a: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били хипотетичке структуре које леже у основи психолошког функционисањ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Ид (Оно)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00120"/>
            <a:ext cx="822960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редставља несвесне снаге, дубоко скривене у свакој личности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Те снаге су извор психичке енергије, такозваног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либида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, који управља људским животом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Овај део људске личности сачињавају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урођени нагони, сексуалне и агресивне потиснуте жеље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, које су изван принципа реалитета и не подлежу законитостима времена, узрочности, логичности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роцеси се у оквиру несвесног дела личности одвијају п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принципу задовољства / незадовољства 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Его (Ја)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Део личности који настаје раслојавањем Ида у контакту са реалношћу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Его битно одређује индивидуу као личност која опажа, мисли, осећа, има ставове према околном свету и сопственој личности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Его функционише према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принципима реалитета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, у чијој основи лежи објективно и разложно мишљењ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Его поседује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одбрамбене механизме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омоћу којих се бори за опстанак и функционисање под оптималним условим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nmuric91@gmail.com</cp:lastModifiedBy>
  <dcterms:modified xsi:type="dcterms:W3CDTF">2020-10-01T10:31:21Z</dcterms:modified>
  <cp:revision>49</cp:revision>
  <dc:subject/>
  <dc:title>Texto</dc:title>
</cp:coreProperties>
</file>